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76E3-73C8-4F74-8EFF-312A08B79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7B11-F17B-4EF0-B7F0-E2597860D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E3AA-87CC-481A-8FFF-DFF070058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0666-DB5C-4B26-942D-4FD54A136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AD57-AF0A-45E6-85C4-C471EF820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7FBA-A04E-46B3-BCC6-B3390F655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438C-0F81-4B3C-9366-CD03FC2D7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21D-A2AA-4531-B407-3A7E2C99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210-B20A-4A94-9A64-BC516649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983-DAB1-43D3-BF48-59C57100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D39-3BC4-4C41-865F-064B5FDA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3FE8-FC71-476C-AC15-A0B35AB9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86DA-5A7D-4E01-ADDB-43B2FEEC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200F-60C5-442F-B39B-686940C5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DC12-9E22-47E4-ADCF-FF967EA3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6ED5-8181-4E60-B9C1-C057AC05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C04D-B3FF-4130-A60A-12593BEC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E5F8-6402-478D-BBCF-17C4A781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AED-BC86-49CD-9866-86BA9DA6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2750-1410-4376-9A96-8AE88143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2C49-6853-4836-905A-5F201442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D7F7-F4DF-42B5-804A-5985325E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BC38-2D22-4B3B-8DCB-84D56182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87DF-AA8E-4E3A-B9E2-83D34F60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B7B20-4FF2-4656-868C-4196C6D8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18EA-6CDE-42A2-B37D-20015702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BFB6-A15D-4DCA-9777-E8C83763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E458E-7758-4EE0-9AB2-D0C382A0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DBF0-DEF9-4B19-B7DA-AE01BEA9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A04-6605-4E15-B2FF-F4F9F519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3FA32-EE09-4311-8C27-4C811768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DA71-C894-4786-BCA2-58D68959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A3EFD-3468-4352-BBF6-8CB1C33A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62981-910F-4876-8350-FB7128C0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AC03-3305-42CB-ACBF-ADED8876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C991-C140-43CB-BBBC-67DD37CB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9ACD-32CE-4EEB-A5A5-499032EB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BF0BF-44DB-478D-952E-4C611D27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2D13F-BDBD-4028-9C5C-D79851B9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25146-09DB-4E28-B839-450ADA9D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57D-EEA0-433D-9B84-E901FA4C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708DE-FDC4-47AA-BD96-EC4034F3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8ECB3-F038-4D6A-BA22-93B0D37D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301BA-7CA6-485C-8071-028D65D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B7058-7B16-4608-BF82-772CC738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A7E447-7785-4BB5-9E69-4F74869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81820-BF8D-4B07-8F89-1A8D7C9E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ABEEF-30AE-45A4-A581-07380958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8BB31C-D864-4DEE-BFC0-60D6C0E9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3C7D36-C793-4D31-B917-BDC423E7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01553-B0E5-4085-817B-FD3EED34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617-20D8-4B02-A0A4-602888DE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F11D5-F0A7-41E0-B3E7-F860F904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2A8F2-B0F7-4595-8E59-65FE7790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0B768-9868-44A2-92F9-16109743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E24EA-9DCE-4605-BB30-905D899D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E275F-549C-4201-AED8-59DFD64E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81134-6223-41B9-9071-7DABC09D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907D8-4CA4-496C-92C5-19C87F37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0C554-550C-4D70-B967-AA8AD3E6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D9E3-B78C-4A89-9968-FC4AF15D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FAA95-410E-4844-A533-3B42C63E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9E7-A9D1-4605-9EED-28DAAAA2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85FD0-623B-42E3-A21A-ADEBC083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8F9DE-1D2B-4D5F-9370-642E5758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22B7F-689E-4464-B109-158A4371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AA702-C247-4165-A7F4-571E7150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C25F04-0AE8-46BB-9F04-AEFCE2DB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E621E-D8EC-4561-8075-92A2DDAB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F5A0F-3EFD-49EF-8BD6-829256BC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FC980-A5B1-454A-ABB4-BC704808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AC0DC-920A-44CA-B789-98BF606E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D85B8-62DC-440F-A39B-6A1760F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B92-933D-4481-9609-9D30BE04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210BC-0356-4BE5-9B64-12DFBEF9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44A41-B06A-4A26-84BB-83BE90FA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585CC-DAEC-4D19-9FFB-5EECCDE4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CDE78-8FE4-43AE-A927-5F69B8C9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A52C5-FE41-4322-80C1-B359888C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BB5C2-0690-4510-8538-2A209359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992DE-76D6-4B52-AEFC-E9975DCE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C7D8D0-D012-4948-9030-E76E924C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2A13F-7EA8-4DDD-899B-425D42CE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867C77-3E29-44D8-9201-2A1565B8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D77-FED8-412D-AB32-FA0EB898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EE299D-1F0D-41E3-8B19-78BD4A48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5895D-C694-41B8-B816-E76B6A0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FA2C1-631C-400D-98ED-972E019F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8FD07-49B5-4540-B1ED-F81111B0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3BE06-7756-4524-8912-64F83817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BF8FEA-67DE-4A6E-9512-B9726CE6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74FA4F-61FA-4AC6-A27D-4D7429E2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3806F2-4F6D-4F4F-A00A-602709B6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643500-D7B9-44EF-A54B-51C48A77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16225E-EFA5-45BE-B86B-9A771288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730-3732-4578-A7C5-E9263DAA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D9B892-B74D-4538-A71E-A09D4639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312D63-3F54-41D0-8385-8E067B85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24753C-5461-420C-A10A-62B3EDC0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4F1F82-31F4-49DC-A4D5-22A9B293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DFEE0-DC53-42F3-9B00-A76B7606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8D524-EE5E-400D-8D8F-E0101AD2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BCF222-4BF7-4DE6-BDA5-941FBCB9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2531-FBA1-406E-86E9-7FDFC5B56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D903-F78B-4293-A670-71F08ECE26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22F1-8D0D-4233-8B2B-307EC4A340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F9D7-258D-4F92-A7E0-32C228078B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09E5-7A13-42EA-A9E2-642CA8F3D6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2E45-139B-4E0D-A6C1-E79A83488F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BC3E-F9A0-42BB-B719-0BA4E42756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CB72-764F-4FC1-B049-34045414CE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2   (5 Word Part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NYM, ONYMO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523880"/>
            <a:ext cx="3814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or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66720" y="167616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seudonym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seudo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alse; fake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nonym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(sy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at the same time; like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nonymo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cronym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nym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word or nam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onymo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tony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omony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6" descr="antonym.jpg"/>
          <p:cNvPicPr/>
          <p:nvPr/>
        </p:nvPicPr>
        <p:blipFill>
          <a:blip r:embed="rId1"/>
          <a:stretch/>
        </p:blipFill>
        <p:spPr>
          <a:xfrm>
            <a:off x="2819520" y="2362320"/>
            <a:ext cx="990360" cy="857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pseudonym.jpg"/>
          <p:cNvPicPr/>
          <p:nvPr/>
        </p:nvPicPr>
        <p:blipFill>
          <a:blip r:embed="rId2"/>
          <a:stretch/>
        </p:blipFill>
        <p:spPr>
          <a:xfrm>
            <a:off x="2286000" y="38862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acronym.jpg"/>
          <p:cNvPicPr/>
          <p:nvPr/>
        </p:nvPicPr>
        <p:blipFill>
          <a:blip r:embed="rId3"/>
          <a:stretch/>
        </p:blipFill>
        <p:spPr>
          <a:xfrm>
            <a:off x="533520" y="32004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anonmous.jpg"/>
          <p:cNvPicPr/>
          <p:nvPr/>
        </p:nvPicPr>
        <p:blipFill>
          <a:blip r:embed="rId4"/>
          <a:stretch/>
        </p:blipFill>
        <p:spPr>
          <a:xfrm>
            <a:off x="1295280" y="5181480"/>
            <a:ext cx="1162080" cy="1171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homonym.jpg"/>
          <p:cNvPicPr/>
          <p:nvPr/>
        </p:nvPicPr>
        <p:blipFill>
          <a:blip r:embed="rId5"/>
          <a:stretch/>
        </p:blipFill>
        <p:spPr>
          <a:xfrm>
            <a:off x="7010280" y="914400"/>
            <a:ext cx="159084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523880"/>
            <a:ext cx="3814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l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nace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norama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rama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view or a sight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ntheis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ndem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6" descr="pandemic.jpg"/>
          <p:cNvPicPr/>
          <p:nvPr/>
        </p:nvPicPr>
        <p:blipFill>
          <a:blip r:embed="rId1"/>
          <a:stretch/>
        </p:blipFill>
        <p:spPr>
          <a:xfrm>
            <a:off x="5334120" y="4572000"/>
            <a:ext cx="120960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panorama.jpg"/>
          <p:cNvPicPr/>
          <p:nvPr/>
        </p:nvPicPr>
        <p:blipFill>
          <a:blip r:embed="rId2"/>
          <a:stretch/>
        </p:blipFill>
        <p:spPr>
          <a:xfrm>
            <a:off x="762120" y="4800600"/>
            <a:ext cx="1981080" cy="1066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pantheism.jpg"/>
          <p:cNvPicPr/>
          <p:nvPr/>
        </p:nvPicPr>
        <p:blipFill>
          <a:blip r:embed="rId3"/>
          <a:stretch/>
        </p:blipFill>
        <p:spPr>
          <a:xfrm>
            <a:off x="2438280" y="2133720"/>
            <a:ext cx="1200240" cy="167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SS, PATH, PATH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99840"/>
            <a:ext cx="3814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eeling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ffer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ompass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thet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sychopath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sycho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mind; soul; lif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ympath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elepathy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ele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ar; far off; from afar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tipath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path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6" descr="compassion.jpg"/>
          <p:cNvPicPr/>
          <p:nvPr/>
        </p:nvPicPr>
        <p:blipFill>
          <a:blip r:embed="rId1"/>
          <a:stretch/>
        </p:blipFill>
        <p:spPr>
          <a:xfrm>
            <a:off x="762120" y="30481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ompassionn.jpg"/>
          <p:cNvPicPr/>
          <p:nvPr/>
        </p:nvPicPr>
        <p:blipFill>
          <a:blip r:embed="rId2"/>
          <a:stretch/>
        </p:blipFill>
        <p:spPr>
          <a:xfrm>
            <a:off x="7086600" y="380880"/>
            <a:ext cx="1219320" cy="1067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psychopath.jpg"/>
          <p:cNvPicPr/>
          <p:nvPr/>
        </p:nvPicPr>
        <p:blipFill>
          <a:blip r:embed="rId3"/>
          <a:stretch/>
        </p:blipFill>
        <p:spPr>
          <a:xfrm>
            <a:off x="1600200" y="4876920"/>
            <a:ext cx="1371600" cy="1447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telepathy.jpg"/>
          <p:cNvPicPr/>
          <p:nvPr/>
        </p:nvPicPr>
        <p:blipFill>
          <a:blip r:embed="rId4"/>
          <a:stretch/>
        </p:blipFill>
        <p:spPr>
          <a:xfrm>
            <a:off x="3200400" y="3505320"/>
            <a:ext cx="152388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CT,OCTO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tant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nt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at which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tob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tahedr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topus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us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oot or feet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togenaria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till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6" descr="octant.jpg"/>
          <p:cNvPicPr/>
          <p:nvPr/>
        </p:nvPicPr>
        <p:blipFill>
          <a:blip r:embed="rId1"/>
          <a:stretch/>
        </p:blipFill>
        <p:spPr>
          <a:xfrm>
            <a:off x="609480" y="312408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octahedronn.jpg"/>
          <p:cNvPicPr/>
          <p:nvPr/>
        </p:nvPicPr>
        <p:blipFill>
          <a:blip r:embed="rId2"/>
          <a:stretch/>
        </p:blipFill>
        <p:spPr>
          <a:xfrm>
            <a:off x="3581280" y="4876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octaheron.jpg"/>
          <p:cNvPicPr/>
          <p:nvPr/>
        </p:nvPicPr>
        <p:blipFill>
          <a:blip r:embed="rId3"/>
          <a:stretch/>
        </p:blipFill>
        <p:spPr>
          <a:xfrm>
            <a:off x="2590920" y="2209680"/>
            <a:ext cx="1361880" cy="1352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october.jpg"/>
          <p:cNvPicPr/>
          <p:nvPr/>
        </p:nvPicPr>
        <p:blipFill>
          <a:blip r:embed="rId4"/>
          <a:stretch/>
        </p:blipFill>
        <p:spPr>
          <a:xfrm>
            <a:off x="1371600" y="4952880"/>
            <a:ext cx="1495440" cy="1447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octogenarian.jpg"/>
          <p:cNvPicPr/>
          <p:nvPr/>
        </p:nvPicPr>
        <p:blipFill>
          <a:blip r:embed="rId5"/>
          <a:stretch/>
        </p:blipFill>
        <p:spPr>
          <a:xfrm>
            <a:off x="6172200" y="49528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octopus.jpg"/>
          <p:cNvPicPr/>
          <p:nvPr/>
        </p:nvPicPr>
        <p:blipFill>
          <a:blip r:embed="rId6"/>
          <a:stretch/>
        </p:blipFill>
        <p:spPr>
          <a:xfrm>
            <a:off x="7086600" y="380880"/>
            <a:ext cx="1638360" cy="167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OV, NON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vennial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nnial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pertaining to so many year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agon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nona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nine) 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go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angle or corner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ill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Picture 6" descr="nonagon.jpg"/>
          <p:cNvPicPr/>
          <p:nvPr/>
        </p:nvPicPr>
        <p:blipFill>
          <a:blip r:embed="rId1"/>
          <a:stretch/>
        </p:blipFill>
        <p:spPr>
          <a:xfrm>
            <a:off x="6781680" y="6094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november.jpg"/>
          <p:cNvPicPr/>
          <p:nvPr/>
        </p:nvPicPr>
        <p:blipFill>
          <a:blip r:embed="rId2"/>
          <a:stretch/>
        </p:blipFill>
        <p:spPr>
          <a:xfrm>
            <a:off x="685800" y="4343400"/>
            <a:ext cx="320040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3-30T18:22:22Z</dcterms:modified>
  <cp:revision>33</cp:revision>
  <dc:subject/>
  <dc:title>Roots List #1</dc:title>
</cp:coreProperties>
</file>